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CD6F-9983-42C4-A9E1-876C3550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1983-0EDC-4090-8287-3706C373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D188-5A4E-4972-ACBD-CEA4E196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2082-8CC7-45A1-B149-19DAF346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990-0CCD-411B-A270-637AF126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71FD-7C75-4838-9F16-37310C59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4856-0F7A-4D64-B5C5-C950720A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FD42-C975-4A16-ADF5-7F91D0CE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C43-E290-4388-908E-39A413E4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9CC9-A5B7-4B93-AC0C-5996B100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1513-A356-4CFA-8469-B74ECE2B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1B3E-E864-4E04-8DEF-7F175A78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A7E9-12A8-422F-B875-C44B59DF5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hyperlink" Target="http://www.theodora.com/wfb" TargetMode="External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71800" y="228600"/>
            <a:ext cx="1828800" cy="15570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Moroc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doni MT"/>
              </a:rPr>
              <a:t>A country on the northwest corner of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www.worldatlas.com/webimage/countrys/africa/maafrica.gif"/>
          <p:cNvPicPr/>
          <p:nvPr/>
        </p:nvPicPr>
        <p:blipFill>
          <a:blip r:embed="rId1"/>
          <a:srcRect l="7500" t="18240" r="7500" b="6555"/>
          <a:stretch/>
        </p:blipFill>
        <p:spPr>
          <a:xfrm>
            <a:off x="4722840" y="0"/>
            <a:ext cx="2668680" cy="2590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Map of Morocco"/>
          <p:cNvPicPr/>
          <p:nvPr/>
        </p:nvPicPr>
        <p:blipFill>
          <a:blip r:embed="rId2"/>
          <a:srcRect l="4996" t="2279" r="4996" b="11112"/>
          <a:stretch/>
        </p:blipFill>
        <p:spPr>
          <a:xfrm>
            <a:off x="533520" y="0"/>
            <a:ext cx="2438280" cy="2573280"/>
          </a:xfrm>
          <a:prstGeom prst="rect">
            <a:avLst/>
          </a:prstGeom>
          <a:ln w="0">
            <a:noFill/>
          </a:ln>
        </p:spPr>
      </p:pic>
      <p:sp>
        <p:nvSpPr>
          <p:cNvPr id="44" name="TextBox 9"/>
          <p:cNvSpPr/>
          <p:nvPr/>
        </p:nvSpPr>
        <p:spPr>
          <a:xfrm>
            <a:off x="1981080" y="2590920"/>
            <a:ext cx="487692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untry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onstitutional Mon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ital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Rab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igion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lam 99%,  Christian 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teracy Rat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ural Resource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ron ore, fish, 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STREET LIFE SCENE - Marrakech, Marrakech"/>
          <p:cNvPicPr/>
          <p:nvPr/>
        </p:nvPicPr>
        <p:blipFill>
          <a:blip r:embed="rId3"/>
          <a:stretch/>
        </p:blipFill>
        <p:spPr>
          <a:xfrm>
            <a:off x="-6480" y="3956040"/>
            <a:ext cx="2146320" cy="2146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11"/>
          <p:cNvSpPr/>
          <p:nvPr/>
        </p:nvSpPr>
        <p:spPr>
          <a:xfrm>
            <a:off x="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 2"/>
                <a:ea typeface="Wingdings 2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nake Charmers</a:t>
            </a:r>
            <a:r>
              <a:rPr b="0" lang="en-US" sz="14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6477120" y="57913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que in Casablan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" descr="http://t3.gstatic.com/images?q=tbn:ANd9GcQ3MZNIxzGhEMOBpQXwwvW5XZ34xrE5uAdnLYdA6jCbuyPTyIIA"/>
          <p:cNvPicPr/>
          <p:nvPr/>
        </p:nvPicPr>
        <p:blipFill>
          <a:blip r:embed="rId4"/>
          <a:stretch/>
        </p:blipFill>
        <p:spPr>
          <a:xfrm>
            <a:off x="5608800" y="3273480"/>
            <a:ext cx="3541680" cy="2487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5"/>
          <p:cNvSpPr/>
          <p:nvPr/>
        </p:nvSpPr>
        <p:spPr>
          <a:xfrm>
            <a:off x="3124080" y="60958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ag of Moroc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Flag of Morocco"/>
          <p:cNvPicPr/>
          <p:nvPr/>
        </p:nvPicPr>
        <p:blipFill>
          <a:blip r:embed="rId5"/>
          <a:stretch/>
        </p:blipFill>
        <p:spPr>
          <a:xfrm>
            <a:off x="2819520" y="4572000"/>
            <a:ext cx="2427120" cy="1495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http://www.free-press-release.com/uploads/news/2011/03/29/1301432320_img3.jpg"/>
          <p:cNvPicPr/>
          <p:nvPr/>
        </p:nvPicPr>
        <p:blipFill>
          <a:blip r:embed="rId6"/>
          <a:stretch/>
        </p:blipFill>
        <p:spPr>
          <a:xfrm>
            <a:off x="7321680" y="-6480"/>
            <a:ext cx="1828800" cy="27561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7"/>
          <p:cNvSpPr/>
          <p:nvPr/>
        </p:nvSpPr>
        <p:spPr>
          <a:xfrm>
            <a:off x="7391520" y="27432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roccan 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 rot="20290200">
            <a:off x="2975760" y="1835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Arial Black"/>
              </a:rPr>
              <a:t>Sampl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8" descr="C:\Documents and Settings\ISLPT342\Local Settings\Temporary Internet Files\Content.IE5\WOE9UHKA\MP900424386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" name="TextBox 1"/>
          <p:cNvGrpSpPr/>
          <p:nvPr/>
        </p:nvGrpSpPr>
        <p:grpSpPr>
          <a:xfrm>
            <a:off x="3956040" y="-6480"/>
            <a:ext cx="2225520" cy="2689200"/>
            <a:chOff x="3956040" y="-6480"/>
            <a:chExt cx="2225520" cy="2689200"/>
          </a:xfrm>
        </p:grpSpPr>
        <p:pic>
          <p:nvPicPr>
            <p:cNvPr id="56" name="TextBox 1" descr=""/>
            <p:cNvPicPr/>
            <p:nvPr/>
          </p:nvPicPr>
          <p:blipFill>
            <a:blip r:embed="rId2"/>
            <a:stretch/>
          </p:blipFill>
          <p:spPr>
            <a:xfrm>
              <a:off x="3956040" y="-6480"/>
              <a:ext cx="222552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962520" y="0"/>
              <a:ext cx="22096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y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yria has lots of sand and mountain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TextBox 4"/>
          <p:cNvGrpSpPr/>
          <p:nvPr/>
        </p:nvGrpSpPr>
        <p:grpSpPr>
          <a:xfrm>
            <a:off x="2511360" y="2664000"/>
            <a:ext cx="4280040" cy="3425760"/>
            <a:chOff x="2511360" y="2664000"/>
            <a:chExt cx="4280040" cy="3425760"/>
          </a:xfrm>
        </p:grpSpPr>
        <p:pic>
          <p:nvPicPr>
            <p:cNvPr id="59" name="TextBox 4" descr=""/>
            <p:cNvPicPr/>
            <p:nvPr/>
          </p:nvPicPr>
          <p:blipFill>
            <a:blip r:embed="rId3"/>
            <a:stretch/>
          </p:blipFill>
          <p:spPr>
            <a:xfrm>
              <a:off x="2511360" y="2664000"/>
              <a:ext cx="4280040" cy="34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514600" y="2666880"/>
              <a:ext cx="42670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Country Fa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Government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ublic under a military regime since March 196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pital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Damascus, 2,381,800 (metro. area), 1,861,9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anguage :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ab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Religions :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lam 90%Christian 1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iteracy Rate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73.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Natural Resources: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troleum, chrome, asphal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Box 5"/>
          <p:cNvSpPr/>
          <p:nvPr/>
        </p:nvSpPr>
        <p:spPr>
          <a:xfrm>
            <a:off x="3733920" y="63961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ag of Sy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Flag of Syria"/>
          <p:cNvPicPr/>
          <p:nvPr/>
        </p:nvPicPr>
        <p:blipFill>
          <a:blip r:embed="rId4"/>
          <a:stretch/>
        </p:blipFill>
        <p:spPr>
          <a:xfrm>
            <a:off x="3560760" y="5175360"/>
            <a:ext cx="1949400" cy="2377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Qala't ibn Maan, Syria"/>
          <p:cNvPicPr/>
          <p:nvPr/>
        </p:nvPicPr>
        <p:blipFill>
          <a:blip r:embed="rId5"/>
          <a:stretch/>
        </p:blipFill>
        <p:spPr>
          <a:xfrm>
            <a:off x="-6480" y="3882960"/>
            <a:ext cx="2425680" cy="1762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Conical mud-brick beehive houses, central Syria."/>
          <p:cNvPicPr/>
          <p:nvPr/>
        </p:nvPicPr>
        <p:blipFill>
          <a:blip r:embed="rId6"/>
          <a:stretch/>
        </p:blipFill>
        <p:spPr>
          <a:xfrm>
            <a:off x="6608880" y="4035600"/>
            <a:ext cx="2260440" cy="2719080"/>
          </a:xfrm>
          <a:prstGeom prst="rect">
            <a:avLst/>
          </a:prstGeom>
          <a:ln w="0">
            <a:noFill/>
          </a:ln>
        </p:spPr>
      </p:pic>
      <p:sp>
        <p:nvSpPr>
          <p:cNvPr id="65" name="TextBox 13"/>
          <p:cNvSpPr/>
          <p:nvPr/>
        </p:nvSpPr>
        <p:spPr>
          <a:xfrm>
            <a:off x="6781680" y="54864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ehive hous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4"/>
          <p:cNvSpPr/>
          <p:nvPr/>
        </p:nvSpPr>
        <p:spPr>
          <a:xfrm>
            <a:off x="0" y="5791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ala't ibn M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7" descr="Map of Syria, MIddle Eastern Countries"/>
          <p:cNvPicPr/>
          <p:nvPr/>
        </p:nvPicPr>
        <p:blipFill>
          <a:blip r:embed="rId7"/>
          <a:srcRect l="38937" t="0" r="30089" b="13994"/>
          <a:stretch/>
        </p:blipFill>
        <p:spPr>
          <a:xfrm>
            <a:off x="6916680" y="0"/>
            <a:ext cx="2227320" cy="2590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Syria Map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0"/>
            <a:ext cx="32004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poweruser</cp:lastModifiedBy>
  <dcterms:modified xsi:type="dcterms:W3CDTF">2011-11-08T17:27:18Z</dcterms:modified>
  <cp:revision>19</cp:revision>
  <dc:subject/>
  <dc:title>Slide 1</dc:title>
</cp:coreProperties>
</file>